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419-F7C7-4EDE-BE2C-7F37B1EB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795-BF9F-4BFD-98A1-B6C8361C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61D-CA19-4051-B901-807C7DBB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479-2C2D-4E50-A3C8-3CDC0177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453-889D-450A-8102-C0E12578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4E3-7389-4DDF-884F-3FF517D9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8C5-B8FB-488C-B53C-8485AB70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03D-74F1-4198-BF90-9518250C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9E4-C1B6-4E73-8133-F3482D1C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FF0-0DD3-4466-92D5-A1808AD0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E7E-430C-4216-973D-271AA08D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5F4-5A7C-44EE-B528-39F91BB4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E578-57CF-436B-9166-5A7BFD1E6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762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646200"/>
            <a:ext cx="4647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roadway"/>
              </a:rPr>
              <a:t>FAMILY MOVIE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roadway"/>
              </a:rPr>
              <a:t>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roadway"/>
              </a:rPr>
              <a:t>ASTON-BEECH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roadway"/>
              </a:rPr>
              <a:t>FIR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954400">
            <a:off x="372600" y="766440"/>
            <a:ext cx="1349640" cy="1684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2743200"/>
            <a:ext cx="297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 793 MOUNT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ON 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; FRIDAY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: 7:3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SS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 - $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(12 AND UNDER) - $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14800" y="243828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6705720"/>
            <a:ext cx="121896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05320" y="41911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eshments sold: Hotdogs, Soda, popcorn, and water ice. All f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al pr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5562720"/>
            <a:ext cx="4572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 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D - 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HOUSE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NG LAWN CHAIRS, BLAN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HAVE A GREAT FAMI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GHT ENJOYING A MOVIE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RESHMENTS TOGETH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2:02:11Z</dcterms:created>
  <dc:creator>NNMC</dc:creator>
  <dc:description/>
  <dc:language>en-US</dc:language>
  <cp:lastModifiedBy>James Graham</cp:lastModifiedBy>
  <dcterms:modified xsi:type="dcterms:W3CDTF">2008-07-03T02:43:12Z</dcterms:modified>
  <cp:revision>10</cp:revision>
  <dc:subject/>
  <dc:title>Slide 1</dc:title>
</cp:coreProperties>
</file>